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A2DB-AF24-42AA-94E3-FB0D7BBAC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9DA8-52E2-41B1-8E55-F08AD48D0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1532-EAA3-4070-BBFA-78E219801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2CB0-38E9-4968-B988-94FF235A6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A48A-09A1-4686-B829-2C66F4583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CB39-6110-4115-9E7C-2C979DFA23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9A5D-E9A1-44E7-97BC-DE4C1107B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72BB-DB70-4E18-B2D3-3114B94BE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9057-9F27-4513-975B-1A63AC341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A0DA-AE19-4638-88E3-7A1DD4221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5A0E-5D42-4E1B-BB5B-8CF347478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12E1-518D-450F-909E-5E3B0BE5E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5890-066B-4377-ADCB-9DDEAD320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F417-C3C7-4712-BA8D-A6F824448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7B31-C73A-428E-8989-435A2EB45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304920" y="152280"/>
            <a:ext cx="36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2525760" y="3213000"/>
            <a:ext cx="646596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87000"/>
          </a:bodyPr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SIBLE AND / OR IN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nse Pulsed L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UNPROTECTED OCCULAR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0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 OR SCATTER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33"/>
          <p:cNvSpPr/>
          <p:nvPr/>
        </p:nvSpPr>
        <p:spPr>
          <a:xfrm>
            <a:off x="2525760" y="2919240"/>
            <a:ext cx="0" cy="3862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76320" y="152280"/>
            <a:ext cx="8991360" cy="2766960"/>
          </a:xfrm>
          <a:prstGeom prst="rect">
            <a:avLst/>
          </a:prstGeom>
          <a:solidFill>
            <a:srgbClr val="ffa1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6320" y="152280"/>
            <a:ext cx="8991360" cy="6629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81080" y="3738600"/>
            <a:ext cx="2260440" cy="201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2"/>
          <a:stretch/>
        </p:blipFill>
        <p:spPr>
          <a:xfrm>
            <a:off x="372960" y="892080"/>
            <a:ext cx="1322640" cy="1154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860400" y="1077840"/>
            <a:ext cx="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ngla MN"/>
                <a:ea typeface="Ayuthaya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698480" y="544680"/>
            <a:ext cx="72565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rmAutofit fontScale="93000"/>
          </a:bodyPr>
          <a:p>
            <a:pPr marL="36720" algn="ctr">
              <a:lnSpc>
                <a:spcPct val="100000"/>
              </a:lnSpc>
              <a:spcBef>
                <a:spcPts val="5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Franklin Gothic Medium"/>
                <a:ea typeface="Tahoma"/>
              </a:rPr>
              <a:t>WARN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33"/>
          <p:cNvSpPr/>
          <p:nvPr/>
        </p:nvSpPr>
        <p:spPr>
          <a:xfrm>
            <a:off x="76320" y="2919240"/>
            <a:ext cx="8991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044880" y="5626080"/>
            <a:ext cx="5334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nse Pulsed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avelengths: 400nm – 1400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E. Hoopman</dc:creator>
  <dc:description/>
  <cp:keywords/>
  <dc:language>en-US</dc:language>
  <cp:lastModifiedBy>John Hoopman</cp:lastModifiedBy>
  <cp:lastPrinted>2018-08-15T15:18:09Z</cp:lastPrinted>
  <dcterms:modified xsi:type="dcterms:W3CDTF">2020-03-25T15:08:19Z</dcterms:modified>
  <cp:revision>39</cp:revision>
  <dc:subject/>
  <dc:title>PowerPoint Presentation</dc:title>
</cp:coreProperties>
</file>